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115-AE03-4006-B358-8ED5A6E3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208-F202-417C-A6C1-AD7AF7F2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071-09CB-4BE9-A9BB-EE443534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C2E-C80A-4595-8D49-50AAF306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3547-31B7-48C3-89FA-8DFF01B1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0907-AE8E-4808-8135-62DA8039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1A0A-8CAB-4087-9BC4-E72A15FD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7AFF-7857-4A59-ADAD-0ADF32DF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52C8-3FAA-444E-9754-B4D79DB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CBB6-5206-497A-8DD7-41780FB8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BE17-722B-4C58-8342-36F5674D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649-D09F-405C-AAF5-5AAB0B2E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78CB-E819-4942-BF60-D2CE9A0C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5B0D-BB45-4EF4-BCF2-5C84407C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831D-0486-47B0-8E8A-F8119999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97FE-88EC-4770-AE66-797082A8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2B58-29D1-4C39-A27F-22B5FD91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3B9-99F0-4B94-8C63-CA6ED960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588-E2E7-42D5-ADFA-A5B89A2E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3EF-216F-42B6-B99A-4CCE403B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D3B-02D9-4E7B-A8E3-36B7A02B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7DC-EA9D-4ACC-A571-87255D8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CEB-7993-4D4A-B21D-BA31BFC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1A8-8AC4-4703-B416-76E34F07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8A58-84F0-4D57-913B-EAF14ABC1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12EA-B7DA-4087-8098-810EB582E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vanguard.com/" TargetMode="External"/><Relationship Id="rId2" Type="http://schemas.openxmlformats.org/officeDocument/2006/relationships/hyperlink" Target="http://fidelity.com/" TargetMode="External"/><Relationship Id="rId3" Type="http://schemas.openxmlformats.org/officeDocument/2006/relationships/hyperlink" Target="http://troweprice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133720" y="498600"/>
            <a:ext cx="50292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ock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fund that invests in st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unds are also known as equity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different types of stock mutual fu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most common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-cap funds, mid-cap funds, small-cap funds, income funds, growth funds, value funds, blend funds, international funds, and sector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take a closer look at each of these different types of stock mutual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rge-Cap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utual funds invest in companies with market capitalizations in excess of 10 billion doll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tocks held in a large-cap fund are from firms with established and profitable busines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-cap stock funds are less volatile and considered safer than mid-cap and small-cap stock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-cap stock funds do not offer as much growth potential as mid-cap and small-cap stock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d-Cap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utual funds invest in companies with market capitalizations between 2 and 10 billion doll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tocks held in a mid-cap fund are from firms with established businesses that are still expanding and grow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unds tend to offer more growth than large-cap stocks and less volatility than small-cap stock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mall-Cap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utual funds invest in companies with market capitalizations between 300 million and 2 billion doll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tocks held in a small-cap fund are from firms with innovative businesses that are still growing and develop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unds tend to offer more growth potential than large-cap and mid-cap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small-cap stock funds are much more volat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New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ime for us to begin watching a Nightly Business Report Video on Mutual Fund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 question sheet of cour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ome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also known as equity income f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unds include stocks of companies with a long history of paying divid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objective of an income stock fund is to provide steady income to inves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wth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unds invest in stocks with the potential for long-term grow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eans that there is the potential that these stocks will increase significantly in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cks of companies that are experiencing growth in earnings and revenue are the types of stocks found in growth stock mutual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alue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funds invest in companies that are thought to be good barg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funds invest in stocks that have fallen out of favor with mainstream investors for one reason or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stocks are often the stocks of established companies that have stopped growing and that use their earnings to pay dividen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funds produce current income (from the dividends) as well as the potential for long-term growth (from capital appreciation once the stocks become popular again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lend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unds invest in the stocks of companies that are classified as “growth” stocks and “value” st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owth stocks are designed to provide long-term appreciation in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 stocks are designed to provide dividend income and future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national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unds include the stocks of foreign companies that are sold in securities markets throughout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unds may invest in stocks from throughout the world or from a particular nation or re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ly, these funds can provide a tremendous amount of growth, however, they are also considered to be riskier than other types of stock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n Introduction t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371600" y="1986120"/>
            <a:ext cx="5973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tor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und that invests in a single sector of the economy or industry, such as biomedical research, real estate or precious met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or funds often generate erratic performance and usually are either at the top or the bottom of the mutual fund performance rank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dex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mutual funds whose holdings aim to track the performance of a specific stock market ind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index fund tracks the S&amp;P 500. These index funds invest in the exact stocks (and in the same percentages) as those found in the S&amp;P 5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funds have lower costs than actively managed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mutual fund that invests in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types of bond mutual f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ypic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ond mutual funds have the objective of providing stable income with minimal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es of 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going to talk about the following types of bond mutual fu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, Intermediate, and Long-Term U.S. Bond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, Intermediate, and Long-Term Corporate Bond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icipal Bond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Yield (junk) Bond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.S. 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-Term- invests in T-Bills and T-Notes that have maturities of less than fiv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ediate- invests in government securities that have maturities between five and te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erm- invests in government securities that have maturities longer than te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porate 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e bond mutual funds are also classified by the maturity dates of the bonds held by the fund. They are divided into short-term, intermediate, and long-te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maturity rules apply for corporate bond mutual funds as with U.S. bond mutual fund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unicipal 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utual funds invest in municipal bonds and provide investors with tax-free interes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lso insured municipal bond mutual funds. An outside insurance company protects investors from a possible default by the municip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gh Yield (Junk) 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utual funds invest in high yield, high risk corporate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riskiest type of bond mutual fund. However, these are also the most potentially rewarding type of bond mutual f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lance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also known as hybrid f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utual funds invest in stocks, bonds, and money marke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very diversified mutual funds. The stock portion of the fund provides the potential for capital appreciation, while the bond and money market portion provide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Mutual Fund Prospect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egal document which describes the investment objective of the fund, the manner in which the fund is administered and operated, the fees and other pertinent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spectus should be read thoroughly before making an investment decis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re Mutual Fund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 funds are a type of investment that takes money from many investors and uses it to make investments based on a stated investment obj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hareholder in the mutual fund participates proportionally (based upon the number of shares owned) in the gain or loss of the f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ad v. No Loa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utual fund that charges a commission to cover its administrative costs is called a load fu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ont-end load charges the load when the shares are purchased, while a back-end load charges the load when the shares are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o-load mutual fund doesn’t charge a purchase or sales commi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Mutual Fund Compan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guard, Fidelity, and T. Rowe Price are three of the world’s major mutual fund compan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vanguard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fidelity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trowepric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do People Invest in Mutual Fund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ual funds offer investors an affordable way to diversify their investment portfol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ual funds allow investors the opportunity to have a financial stake in many different types of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investments include: stocks, bonds, money markets, real estate, commodities, 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ly, an investor may be able to own stock in a few companies, a few bonds, and have money in a money market account. Participation in a mutual fund, however, allows the investor to have much greater exposure to each of these asset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mutual funds are professionally managed by an investment expert known as a portfolio manag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dividual makes all of the buying and selling decisions for the f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ousands of different mutual funds in the United Sta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vides investors with many options to help them achieve their investment obj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746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sic Mutual Fund Catego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 Funds can be divided into four basic categories based upon the funds investment obj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categori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 Market Mutual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ck Mutual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d Mutual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Mutual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ney Market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554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ney Market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ost conservative type of mutual f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al is to maintain the $1 value of its shares while providing inco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s in high-quality, short-term securities such as certificates of deposit, U.S. Treasury Bills, and U.S. Treasury No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MF’s are an appropriate place for savi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funds have typically offered higher interest rates than bank savings accou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 market mutual funds are not insured by the FD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6:27:30Z</dcterms:created>
  <dc:creator>Sys Admin</dc:creator>
  <dc:description/>
  <dc:language>en-US</dc:language>
  <cp:lastModifiedBy>SysAdmin</cp:lastModifiedBy>
  <dcterms:modified xsi:type="dcterms:W3CDTF">2011-12-06T20:03:18Z</dcterms:modified>
  <cp:revision>74</cp:revision>
  <dc:subject/>
  <dc:title>An Introduction to Mutual Funds</dc:title>
</cp:coreProperties>
</file>